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F911-159B-4928-9B1F-70D653DDCE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5FC6-6930-463E-BE09-88867C2FFF6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BBD6-24D4-4CC5-AE96-EB04620803F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학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의미에서 객관적이라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의미에서도 객관적이라고 간주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6A1C-D8F3-4CBA-AF22-1B27AEBE3A7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IDS 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방암 연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구 윤리 기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임상 연구의 경우 환자에게 어떤 약을 투약했는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약을 주었는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지를 해야 하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적 가치가 무슨 이론을 믿을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용할지 거부할지를 결정해준다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은 과학의 객관성 훼손하는 것 아닌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냐하면 과학자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실이 인도하지 않는 방향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비합리적인 믿음을 가지게 될 수 있기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735E-F193-48F7-A9EE-4E72264A4B8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Trofim Lysenko (1898-1976): Ukrainian botanis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Opposed to classical (Mendelian) genetic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Environment determines dominant genetic trait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Content</a:t>
            </a:r>
            <a:r>
              <a:rPr b="0" lang="en-GB" sz="1200" spc="-1" strike="noStrike">
                <a:solidFill>
                  <a:srgbClr val="f8f8f8"/>
                </a:solidFill>
                <a:latin typeface="Arial"/>
                <a:ea typeface="굴림"/>
              </a:rPr>
              <a:t> of his theory conforms to interpretations of Marxist political thought under Stalin, and social demand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370B-117A-4796-B9C7-F019B9E9DA1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4ACB-331A-44C2-84A6-5B016AA2D7C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생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골상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B60D-95E5-4144-A3F8-BA643580050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D16D-E66E-4865-AE09-A4F3E2BE760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동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동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플로지스톤 이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소 연소 이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F96E-2C9A-4E78-80F7-B52A81BA41B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DF32-1A43-4AA7-83A1-F5A26966FBF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CB02-A930-4720-8741-E3A1FECB316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소수자를 질병으로 취급하는 것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16FF-D018-4A3F-BF6F-4853273B98D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3836-1173-47E8-A193-3EABFCBF990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당시 별로 경쟁적이지 않았던 러시아에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존경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라는 개념 자체가 이해 안되기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351A-3FDC-4355-AE47-B9219BBAEAC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BC0C-A1C4-41C0-9F6A-AA77C82AC90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41A7-BBF8-4338-9D70-E08BFB812A1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C9FD-9065-4C74-AA43-DA06FE545C8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1F02-BD90-4E3C-BB66-A69CA338E62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4995-7CA7-45AD-8677-6D7F65F4A5F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시간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장소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문화에 따라 다름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.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즉 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‘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맥락에 따라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’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다름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예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: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정치적 지향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자유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평등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정의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등에 관한 가치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도덕적 가치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미적 가치</a:t>
            </a:r>
            <a:r>
              <a:rPr b="0" lang="en-US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, </a:t>
            </a:r>
            <a:r>
              <a:rPr b="0" lang="ko-KR" sz="1200" spc="-1" strike="noStrike">
                <a:solidFill>
                  <a:srgbClr val="eef9f4"/>
                </a:solidFill>
                <a:latin typeface="Arial Unicode MS"/>
                <a:ea typeface="Arial Unicode MS"/>
              </a:rPr>
              <a:t>성역할에 대한 가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7B1F-535B-413C-A22E-9EC86355B65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BA64-24EB-4CC5-A599-A2881BB1530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9318-0FE3-4C00-AE5C-4D22DF14C32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6EBC-ACED-4BA9-9808-4B806C7AAD6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765-5EAA-4AAF-AC9E-3BF8BE54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16C-25E2-4470-B2AB-46D40B86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26C-2EC3-45E9-AB7D-2F26D751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B7C-E091-4E7E-A01C-6857E50E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6B8-7493-4E88-9E61-DEC0ED41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CDC-83C2-4505-84E0-1F16EAE1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297-81CB-4F1C-9206-19C04919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0C5-16AB-459A-9112-73D108AD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FB6-155B-48FB-A611-1C03AA2E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83F-B950-4A69-B404-874530AF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106-D812-4E26-85AF-BF4773AF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525-7125-49EA-B606-3FAF2C47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24BF-00E5-4965-8811-63E03243D642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과학의 사회적 구성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적 믿음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비객관적 믿음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전통적인 답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객관적 믿음은 사실에 의해 정당화된 믿음이지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비객관적 믿음은 사실과 무관한 가치들로 인해 가지게 된 믿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성이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진리 대응설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진술은 그것이 사실과 대응될 때 오직 그 때에만 참이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과학은 가치중립적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사회적 가치는 과학에서 하는 역할이 없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없어야 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.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그래서 과학 이론은 오직 실험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관찰 증거에 기초해서만 수용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용돼야 한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회적 가치는 과학에 어떤 영향을 미칠 수 있을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무엇을 연구할지를 결정해줄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연구할지를 결정해줄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 u="sng">
                <a:solidFill>
                  <a:srgbClr val="ffc000"/>
                </a:solidFill>
                <a:uFillTx/>
                <a:latin typeface="Georgia"/>
              </a:rPr>
              <a:t>과학적 믿음의 내용을 결정해줄 수 있다</a:t>
            </a:r>
            <a:r>
              <a:rPr b="1" lang="en-US" sz="2600" spc="-1" strike="noStrike" u="sng">
                <a:solidFill>
                  <a:srgbClr val="ffc000"/>
                </a:solidFill>
                <a:uFillTx/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례가 있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리센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898-1976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와 소련의 유전학 연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형질에 대한 환경 결정 및 획득형질의 유전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맑스주의 철학과 사회적 요구에 부합하는 이론 선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3499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6" name="Picture 2" descr="Lamarck-Darwin"/>
          <p:cNvPicPr/>
          <p:nvPr/>
        </p:nvPicPr>
        <p:blipFill>
          <a:blip r:embed="rId1"/>
          <a:stretch/>
        </p:blipFill>
        <p:spPr>
          <a:xfrm>
            <a:off x="0" y="1052640"/>
            <a:ext cx="9164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즉 사회적 가치는 과학의 객관성을 훼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지만 사회적 가치의 영향을 어떻게 차단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해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발견 단계에서부터 사회적 영향을 차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 선택 단계에서만 사회적 영향 차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찰의 이론의존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증거에 의한 이론미결정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경험적 증거에 의해 이론이 결정될 수 없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회적 요인에 의해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논쟁 종결 또는 논쟁 지속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 이론은 사회적 타협의 산물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패한 과학뿐 아니라 성공한 과학조차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태양중심설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구중심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7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중엽이면 태양중심설 널리 수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러나 태양중심설의 명백한 증거는 없었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렇다면 무엇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회적 구성의 여러 사례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신병의 사회적 구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주류경제학의 사회적 구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맑스경제학의 사회적 구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여성성의 사회적 구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플로지스톤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산소 연소 이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88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년대면 산소 연소 이론 대부분 수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러나 플로지스톤 이론에 기초한 해석도 가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렇다면 무엇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민주주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 관계에 대한 가치 평가가 관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다윈주의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라마르크주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9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까지는 획득형질 유전 여부에 관한 증거 없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핀치의 적응적 진화는 둘 모두 설명 가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렇다면 무엇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극도로 경쟁적이었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9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세기 영국 사회가 영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고전역학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vs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양자역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차세계대전에서 패배한 독일의 상황이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결정론적 물리학에 적대적이도록 만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읽을거리와 질문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이상욱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, “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대칭과 구성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3200" spc="-1" strike="noStrike">
                <a:solidFill>
                  <a:srgbClr val="ffc000"/>
                </a:solidFill>
                <a:latin typeface="Georgia"/>
              </a:rPr>
              <a:t>과학지식사회학의 딜레마</a:t>
            </a: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사회구성주의자들은 반과학적인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971640" indent="-514440">
              <a:spcBef>
                <a:spcPts val="700"/>
              </a:spcBef>
              <a:buClr>
                <a:srgbClr val="ffc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저자는 사회구성주의자들의 얘기가 어떤 면에서 과장되었다고 주장하고 있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저자의 주장에 동의하는가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고는 사회적 가치를 반영한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마르크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만하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뒤르켐 등의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맬서스의 주장은 지주의 이해를 대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리카도의 주장은 자본가의 이해를 대변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연과학은 예외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은 객관적인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의 객관성은 어떻게 보장될 수 있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회적 가치는 과학의 객관성을 훼손하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회적 가치가 과학에 결정적인 영향을 미치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사회적 가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개인이나 사회가 가진 주관적 믿음의 일종으로서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사실에 의존하지 않는 선호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해관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데올로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은 그 사회적 맥락으로부터 독립되어 있을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당연히 아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trivial sense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은 사회적 활동이며 과학자는 공동체에 소속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러나 이 자체는 과학적 객관성에 위협이 되진 않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당연히 아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non-trivial sense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이 사회적 맥락으로부터 사소하지 않은 방식으로 독립되어 있지 않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의 객관성은 의심 가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2:31:23Z</dcterms:created>
  <dc:creator>zolaist</dc:creator>
  <dc:description/>
  <dc:language>en-US</dc:language>
  <cp:lastModifiedBy>zolaist</cp:lastModifiedBy>
  <dcterms:modified xsi:type="dcterms:W3CDTF">2011-05-15T09:20:08Z</dcterms:modified>
  <cp:revision>32</cp:revision>
  <dc:subject/>
  <dc:title>과학의 사회적 구성</dc:title>
</cp:coreProperties>
</file>